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move the slide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2F23-49D6-48C3-BA66-83A9C8E4F8F5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A858-140B-4BC7-91F6-1D0C2568DDA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isää tietosi alapalkkiin seuraavasti: Valitse ”View” valikosta” Master” ja sen alta” Slide Master”. Lisää tietosi napsauttamalla alhaalla oikealla olevaa tekstikenttää. Palaa takaisin valitsemalla ”View” ja sen alta ”Norm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A77-AC98-4631-9CBF-06C4AB92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138-535F-4EC5-921F-44FC3091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58680-6552-4425-ABA1-BE9CB619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5EFA3-1B4E-4F10-92C1-FF29C844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7E673-4C08-4717-96C0-697DDE73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E8AF4-B835-4FAE-A987-64910861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17A4E-88C3-4428-83E1-F4398A4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37B83-1C6E-4736-B023-AFB9C471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DEEC7-6557-474D-A712-09F356D2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A42DF-89A0-439D-9665-305DE94E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FAE4F-7E44-423D-B4B3-96014A66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FE20F-0D03-4BC4-AE59-DD66FEAA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C8D-35FB-45C0-A709-FD295BDB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65352-123E-429B-BE83-01EADBC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66C64-CCF3-42C4-9C53-29550A63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F7A20-EBBE-41BB-A507-C87261FF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1DCCE-ECFD-42D9-927A-CD9EB4A4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9D83F-5620-4EDF-A357-984FEBCE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98C5E-D7F2-4657-B336-D49BAAA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28111-18A8-4F07-825B-E72040B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5AD56-B070-425C-A792-72B23A04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42908-327C-42B7-A2BD-9AE70576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6DC0A-14D3-41D1-94CA-E9E7ED2E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B64-7F3F-4D60-88F7-EE67C302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1D684-BBC2-45AD-9B86-80ABAF2E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7259A-1F6B-4E8D-BBCF-5D35BE25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E636A-FFF2-4965-AECF-D2B519E4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7107F-6052-4786-89C5-561C779B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8C930-9184-4272-832C-D695274A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DAE70-FBAE-470F-978B-01BFA1D8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5DAF3-83B1-45AF-8C2B-F41D0754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50D24-D3C2-4DB9-A45F-18728F3B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8767D-744E-4650-9C6D-21C302A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93864-791A-4A27-A677-475AAD15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A983-CCB6-4A73-9516-54FDBC83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1BB18-0373-4AB0-A548-24158666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40963-53BC-4C5A-97EE-FE2E9380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BBC0A-D089-4DF4-A156-1D6ADD89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863FF-B1A5-41DA-A4FF-855CB340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EAAD5-F613-40B6-9E50-58CE0A3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12016-E084-41F7-B097-BDF164F6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47A8A-3A3C-4C5F-8215-77D41C10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695CA-7E9F-4921-A0E6-D684FE5E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95D99-DF24-4137-87D9-98ED56A0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1A7AA-BCFB-4052-888C-F9F5E8E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96D2-B9E7-4971-88D9-4209BC76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BC4D2-98D5-493F-ABEE-65F2F1A2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9C12C-C0C0-47CF-9DCB-F66A3C5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77EE3-FEAC-426C-8A92-29E2AC32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012FC-0AA8-4973-B7A7-FA973588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CBE6C-63F3-4733-BB70-F4089785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BED6-73BF-44F4-8C2E-E66E5A3B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89FE-5A80-4748-8637-7C1436D3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6560-E5B5-427B-8402-359120DE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4F7C-D025-40D2-A9A1-A5CD2E22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F5ED-73D8-4DCB-ACDC-D69983D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ED7-21A3-4171-A6B4-62202A1D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C47C-0D12-4391-97CB-1E78E19C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F367-4902-47B4-84B5-DED69794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EA5E-6578-4DCE-95E4-D092301A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BB99-C7AB-461D-85F6-F9EDE310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7013-DF52-41CB-BE55-F51A402F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893D7-FF8C-4CDA-AA96-03D15F95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087D-7A16-4C50-BFF5-179FF37A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7DC5-792B-4F72-A889-CDB40031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2431-16B7-4CEB-B333-018ED135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829CE-B26B-4901-8D89-8BD65E45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608-3562-47CA-88C4-82054C00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4580-8642-49E4-B600-3F2A44F7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B5217-7405-420D-9192-06626D8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ADD7-90CA-48F2-B2A1-D892CA87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E80AB-0CEF-4F33-9DB9-3C0332A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76F7-6522-4000-BFA0-E1BBD9FB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FB1A-223D-4973-AE32-806A60F2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9742-D0A8-469C-8796-B62EC907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D5DC-7223-4946-986A-9F87C25C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D39D-568B-4F1B-9792-76FAA34D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848A2-4D1A-43C7-8BDB-E49A08E1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8CA-FA49-448B-996F-B7A2EBEA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BB0E-8281-46B4-9EBE-371D47F4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8238-0C33-4E71-915B-0A65BCCE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ABFC-5E28-411A-BC07-E021E29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4A04-9B12-4DE7-9B83-AD6E63A2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A360-D6DE-4AB8-8A25-77A0ABBB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4E32-C7FE-4AF7-8FA9-7DFD716B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FE9EB-451D-4072-A621-89035C9F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AE61-0769-4A7B-A712-61808A99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203E-84DC-4634-B181-2D2A7341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6439-2A8C-407F-A004-08F92BC6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434-8AD4-40D5-BC77-9CB81B90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3069E-8F49-4ADA-9E2A-501237B9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A906E-7835-440A-ADCE-4135778A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9A929-868B-4CB0-ADB8-D8FA7116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508E2-6A79-48A5-A1C2-96F55459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3D8D8-6797-4626-9256-74B63845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0C785-9367-4881-AE1F-8D2FDD22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39DBE-1E86-4EFD-B23A-44B37C4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D362B-0B38-4D25-A73E-91CDCC20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9995C-AE9B-494D-B885-7B593C0E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5175-DCD8-4EB5-9ADC-C1A8FBA9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BB9-C131-43F9-AB6B-F957ED48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E748-DA9F-40D8-8976-9B5CFC3B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E232-E43D-4FB9-BEE7-0DF164AC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429B7-ACC4-469C-BCB4-91CEAE8D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7E144-2E6D-4923-9B04-2F6DB53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30B7-722F-4201-8E05-22EA6966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AEE7-5EE1-482B-BE36-16DF4318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DA11-748A-45DE-B48B-F1D07D2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B92A-90EB-466F-90CE-034DF1C6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D8EF-1320-4058-BD9A-8A9457F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50B58-DEE7-4C93-BEBC-EDBB5BF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70C-91BE-4A66-9B2B-4D035FAC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164A2-F05C-4901-863F-853A9357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C50B1-537E-4075-A2AC-0713EA01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4BE6-9FAA-4EE4-8E06-B2FF768D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999B6-8496-43BB-83BF-DA48EBE5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D51F-AD1B-41FC-A784-887FF19A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8171-E29C-4AC2-A772-D186063F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861A-F093-48A1-8319-7D522D29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C45EE-6FA7-425F-84BA-22B3FE37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74CF3-FD7E-4A5A-8710-49CABDA1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594C2-77C1-4AFA-8CF2-730D8585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E8E-7419-48D7-9FA8-357B94FE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C550-ED94-4AB4-B0E4-D452EAC5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23184-4931-45B0-BC04-6F12863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1AA42-A8A8-4FC9-9F7B-3E72787E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1F31D-DC89-481F-AB2E-3E5239EB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162BA-0202-4FE5-B8E6-8AD746C4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B6EF7-A8B5-4C4D-97B9-3A69925E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8DBA-253A-42AE-95AE-FB44C525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A80B0-1554-4973-932D-F8DF8975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439BA-F876-4CE4-9553-4F886E50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B0DDA-3A33-4B7F-88AE-99AC1EF9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E15-D407-47B8-88A3-300BEFCF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42D61-3391-494C-9907-753AA407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5CAF3-962F-4267-BA19-2C752D17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98B9E-731F-435F-B03A-D3E95AC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D8CF-4CFE-4AE9-B675-8EC75431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A6A1D-0EE0-44FC-B244-0DAE376C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1812-5C90-4EF5-885D-3F2D4899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F8001-977C-4CA7-9240-EC021E48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EF980-5190-4CB9-A8E8-2856C8ED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BEE4E-AB91-4002-A36B-B7DEE23E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890EB-8EA2-48A7-9189-130E597F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D504CB75-F964-4CD6-B9DA-536D94E39227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2D2C-E9D1-42FD-8DBD-47D16CC5A56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A423B6D5-409A-421B-A178-57B296CFF8EB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669B-38F5-4D87-A874-56C445C9832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27B3F4AF-2885-4423-BC75-240798AE165C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0EAB-CB67-43E4-9FC3-4F9E79875DB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6AC028F5-647D-4AB6-9751-32368E795958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53C7-0C57-472F-90F5-B809ECD3A52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64A9C715-8D0C-4BA9-9E27-7C5DE471FFB3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88FB-CDBF-4C9C-880B-A8A65803467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9E5C8AF9-D263-4F2C-8817-0C587DF537A9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F04D-BCF8-4F06-9D63-26BFBEE8896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A62247C-C1EB-4D00-B0E8-05F1439A577F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35E6-7EC5-4EBD-B6F1-C1435ED0DD8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DF5C6205-E495-4B8E-8D0E-E302C662F93D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939-03BE-4D51-950C-D149FEAD60C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31CB91AA-BE66-416E-ACC8-07EC2BCDD9CA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F2F5-494D-48B4-BCF8-406E535C2D1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0DF57C78-3B90-4C70-BE5B-7FC3E3977020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6A9-0B6A-4377-B784-25A0241B37E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80236A81-01EC-4CA8-8E93-0EE7B6C24573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C65F-EFBB-4027-94B8-A0D03D3C67B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7" descr="Valtti_powerpoint_uusin"/>
          <p:cNvPicPr/>
          <p:nvPr/>
        </p:nvPicPr>
        <p:blipFill>
          <a:blip r:embed="rId2"/>
          <a:stretch/>
        </p:blipFill>
        <p:spPr>
          <a:xfrm>
            <a:off x="0" y="7920"/>
            <a:ext cx="9145440" cy="6850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0"/>
          <p:cNvSpPr/>
          <p:nvPr/>
        </p:nvSpPr>
        <p:spPr>
          <a:xfrm>
            <a:off x="10105920" y="367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4378320" y="765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9394920" y="787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8315280" y="754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07e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B9CE16CE-F7FC-49D1-8BB7-49288D84CE25}" type="datetime3">
              <a:rPr b="0" lang="fi-FI" sz="24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0544-D861-4D8B-9F94-EA972C08BF3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0651A2C4-2AA9-4AA7-AD11-F72D8B5014CF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OPINNÄYTETYÖ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Valttikir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32"/>
          <p:cNvSpPr/>
          <p:nvPr/>
        </p:nvSpPr>
        <p:spPr>
          <a:xfrm>
            <a:off x="-676440" y="10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4"/>
          <p:cNvSpPr/>
          <p:nvPr/>
        </p:nvSpPr>
        <p:spPr>
          <a:xfrm>
            <a:off x="7400880" y="5610240"/>
            <a:ext cx="151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5"/>
          <p:cNvSpPr/>
          <p:nvPr/>
        </p:nvSpPr>
        <p:spPr>
          <a:xfrm>
            <a:off x="7315200" y="57038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7"/>
          <p:cNvSpPr/>
          <p:nvPr/>
        </p:nvSpPr>
        <p:spPr>
          <a:xfrm>
            <a:off x="3578400" y="825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8"/>
          <p:cNvSpPr/>
          <p:nvPr/>
        </p:nvSpPr>
        <p:spPr>
          <a:xfrm>
            <a:off x="-333360" y="9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CA0A9E3E-8E67-4548-8E59-E81943C8C44E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IKÄ? 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15 o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Usein yksilötyön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isältää itsenäisen työn, seminaarit ja ohjauks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yettävä itsenäiseen työskentelyyn, työn aikatauluttamiseen ja raportointi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= suunnittelutehtävä, tuote- tai kehittämisprojekti, tietojärjestelmän luonti tai tutkimus riippuen alas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AA41BFA0-7F54-4964-AA8D-1A2D210250C6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Aiheen valin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deoita alan ammattilehdist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eskustelut muiden opiskelijoiden ja opettajan kan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Yhteistyössä yritysten ja yhteisöjen kan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mmattiopintojen alalta, työelämälähtö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malta kannalta kiinnosta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harjoittelusta aih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hanneorganisaatiolta kysymää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F8842A19-3BED-43DA-8378-6C808B250F73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Aiheen valin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iheeltaan ja taustaltaan riittävän perustelt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jankohtainen ja realist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Mieluummin suppea ja syväll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äytännönlähe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nalyyttinen, looginen ja hyödylli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soittaa lähteitä ja tiedonhankitataitoj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Pohtiva ja kantaa otta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86414101-76F8-4234-8065-F303FAC2D767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Esimerkkejä aiheis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Varastoinnin kehittäminen metallialan yrityksess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veitsiläismatkailijat Suomen järvialueell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ilitoimistojen kehittäminen: kohteena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Höyrykattilan kattilansuojan ja öljynpoltinlogiikan modernisoint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ehtävä: Selvitä kirjastosta, millaisia opinnäytetöitä alallasi on tehty. Ks. Sisällysluettelo, pohdinta ja lähte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8DD51296-27AE-42E7-A041-26B6ECCE7E83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uuta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56760" y="1785960"/>
            <a:ext cx="8286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Osoittaa, että opiskelija kykenee ratkaisemaan ongelm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Selvitä arviointikriteer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ypsyysnäyte pakollinen, mutta ei vaikuta arvosana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F9C5F5D0-07E7-45E3-9EE3-EE21DC7EB498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Miksi ei etene?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Liian suuret vaatimukset työn suht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Pelko epäonnistumises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Iso työmäärä pelotta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kiire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irjoittaminen jumitta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6428FF2D-F9FC-459D-B412-DF799C19BD91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Vinkkejä työskentelyyn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Työn aikatauluttaminen sisällysluoettelon perusteella mahdollisimman pieniin osi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Asennoidu oikein kirjoittamis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eskity vain yhteen pieneen osaan kerralla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Esim. kirjoita yhdestä aiheesta sivu/päiv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Älä mieti arvosanaa, vaan keskity asiaan ja tekemise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4"/>
          <p:cNvSpPr/>
          <p:nvPr/>
        </p:nvSpPr>
        <p:spPr>
          <a:xfrm>
            <a:off x="7292880" y="6348240"/>
            <a:ext cx="289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toteuttava taho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nim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0000"/>
                </a:solidFill>
                <a:latin typeface="Gill Sans"/>
              </a:rPr>
              <a:t>pvm: </a:t>
            </a:r>
            <a:fld id="{9F8FB484-AA36-4960-BDE2-D35B35ED1F37}" type="datetime3">
              <a:rPr b="0" lang="fi-FI" sz="900" spc="-1" strike="noStrike">
                <a:solidFill>
                  <a:srgbClr val="000000"/>
                </a:solidFill>
                <a:latin typeface="Gill Sans"/>
              </a:rPr>
              <a:t>30. heinäkuuta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f207e"/>
                </a:solidFill>
                <a:latin typeface="Gill Sans"/>
              </a:rPr>
              <a:t>Vinkkejä työskentelyyn</a:t>
            </a:r>
            <a:endParaRPr b="0" lang="en-US" sz="3200" spc="-1" strike="noStrike">
              <a:solidFill>
                <a:srgbClr val="3f207e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Kirjoita asia siten kuin itse sen ymmärrä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Jos et ymmärrä, mitä ohjaaja sanoo, pyydä selvennystä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Jos ahdistaa, muuta ajatustapaasi ja ajattele sitä, mitä saavutat, kun työ valmistu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ill Sans"/>
              </a:rPr>
              <a:t>Usko itsees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7:59Z</dcterms:created>
  <dc:creator>Sakke</dc:creator>
  <dc:description/>
  <dc:language>en-US</dc:language>
  <cp:lastModifiedBy>ra</cp:lastModifiedBy>
  <dcterms:modified xsi:type="dcterms:W3CDTF">2009-11-16T11:53:51Z</dcterms:modified>
  <cp:revision>17</cp:revision>
  <dc:subject/>
  <dc:title>PowerPoint Presentation</dc:title>
</cp:coreProperties>
</file>