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65A-56C8-4D7E-BDDE-3678E294DFEF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CB6C-A5C9-4ED0-8567-5AB73439343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isää tietosi alapalkkiin seuraavasti: Valitse ”View” valikosta” Master” ja sen alta” Slide Master”. Lisää tietosi napsauttamalla alhaalla oikealla olevaa tekstikenttää. Palaa takaisin valitsemalla ”View” ja sen alta ”Norm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28C-CA8E-4AD5-99D9-76C88257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ED4-80BB-4D2C-A6DC-99A14625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68FDF-63A5-446A-9001-926FE79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B836C-BE76-4A6A-9F3F-DFA4E6A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69438-CBF1-40D4-A93B-D871637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55541-522F-4D8F-94DB-02D10A0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ED426-702D-4D5F-9B6D-C270613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629D-3AD3-4F3F-83B9-093FC33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442B-022D-4B2F-AC5A-0C2876A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80D53-500C-4D5E-BD75-BEC76230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236BB-A254-45AA-9BB4-41405773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5D9A2-7EBE-4F6C-91A2-874A8DF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D62-9F17-4E7E-A2A0-BF9C0FDE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4C93-1367-465C-A324-2A021FD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75770-52B1-4F32-B861-736C7BE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E33C2-EFA7-431C-9CA9-1E9BE84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7904F-1269-468E-A4CB-0ED4CD80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9A58-E946-42C8-BF9C-5AFED020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D65AE-EF5C-4DC5-AE0B-7B88B41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D27BF-FC2C-4C9A-AC5A-F020934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EC962-AE82-4C39-A778-4B8A015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D6381-518A-43DC-83BD-F85098B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89E23-0617-46DF-A6BD-C60BF34D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4F2-54F1-4198-8B42-FCA7F9E7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79E9E-F9A1-4A0E-B9B1-570C0D83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5DB59-14B1-41B7-8B65-C1661AE4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AE97F-AAD1-42AC-AF55-1891EDF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4A05-4748-41B8-B475-F0DFE81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AA74C-2D95-4D09-B033-EFABDDF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33B74-D447-4F5D-9421-FF03FF8E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86D15-DF71-4CA2-A7DC-AD0E7D1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9ABCE-F1EF-4E2F-8033-9BCCFC1A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4212-62F9-467F-843B-D3CEC4B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E95E8-03B8-47F4-8022-7BADCF5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C8D5-0E09-441E-8358-DA3D91F2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3E88D-1270-43DF-A918-3EB5AB9A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AA63-E3AE-49B5-BE17-144D596B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DCEE5-40A6-4A47-84DE-98DA53FA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A14C5-9B68-4D92-B148-3E9D8B6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F85FE-C338-4101-A4B4-484941AA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31F27-CA0E-492A-9425-93A0A0E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794C6-E323-475B-8AFF-0682A7D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63A0E-8D47-4346-9013-9D7C38E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B1CA7-62DB-4815-8B6C-7A5DF89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57798-66B7-404D-A14C-2045A51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CB5-26FE-4A8A-AE36-FDD69972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9C7B7-A598-4D06-AA52-21FC761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2B341-0CDF-4716-84DB-7223FCE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31DAD-A17D-409A-A5B0-3F409DC9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E7C5-C414-4F6B-9F03-DF623CB4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21E30-05BE-4A22-91C9-49E1941C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2F8-FE5A-44C9-A40D-7F5AB13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F005-3D8A-4ADD-9602-565F063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64F1-725A-48CB-8905-D5376E28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3D3B-6F60-4DDC-9F41-6C0BFA1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236-5CE5-4253-BC04-8B77509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C14-4066-4A9C-BBFA-A2FD30E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A16D-9220-495B-B20A-3D83045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6D9-F7A1-47AE-A3A4-CE243A0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BE29-2489-4A4A-A297-75656B6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9C0-07FC-4500-99A0-93A99C73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CA5-B037-4E2D-948F-5A39E7B4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C84A-31A7-45E9-8B7F-386827D1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593B-48C0-4C1C-9014-527DEA2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DB33-712B-4DED-89F3-30AC927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0577-82E5-475B-9ED7-33035FC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282B-2A67-40EE-9845-5D372A48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052-7CF6-4CDF-B002-065D24F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D1A5-DADE-444B-8AB6-3448CE25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734B-AF82-4DA2-9F39-82BDD6F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B1F0-9F6C-42C8-B3BB-3742100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1A13-E304-4AE3-B1B1-DDB1978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65A5-5832-4B9B-A4EA-D311CC7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C721-9156-404E-A838-D7EAAC11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C476-4001-4CFB-95DD-30799745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3522-6068-4C0F-A724-280D8AB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0E41-DE43-42D5-9BFB-211BA9B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7E81-AA8F-42CB-89CB-6FF64DE4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1A0-6D0D-4945-9951-B1EEA26B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15FC-C42C-4EBD-84FE-C2D2B43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54E1-BA57-4D2A-9BE3-BC1713C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BA82-95B5-4C39-B4A6-DB5CB26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0751-9BF2-4841-9E80-A70EAD9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8293-00B5-419C-9E7C-950E08E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3A45-51C4-4881-B804-E8508EC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88C9-7900-4C9B-AEEA-3A31855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1615-693B-4F3C-A35D-7A51D581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61B1-7A4E-4E3B-AA0E-82567018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D722-ED1A-43BA-B198-A3C10C16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918-BBA5-454D-A3FD-B6E3693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5CAA-4849-4039-89AB-7E9230B0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A6398-2902-4683-BBEA-364B2FE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0567-A263-4976-A80A-BD7E1C9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8EC90-3805-487B-B7AF-FA83C969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F620-74B8-43B8-A815-73F5C11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564A-D96C-424F-AC1F-3801116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8BF7-2B87-4E15-BA87-4F9F4A4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9038-4DA3-4D75-A04B-B2017B6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7CEC-2015-4E20-82B1-DD3595E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9DEE-9DF2-43B2-A1DA-AE6EDFF0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134-A029-4907-9E62-888D13A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7F62-63EC-42F3-9525-6B740EE3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A620-F2C9-4E0F-9100-91671ABF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0FED-7715-4B04-B97A-A671FDE6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EF87-66AE-42C8-A728-B7CBC9D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0DAA-527C-4A7A-B972-945C4C2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5292D-30DF-4326-9985-7DE3255D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FB8F-7B3A-4637-AB78-1C17810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10007-8F40-4FB4-B718-6C83C04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687B9-E2BE-4CC0-BB64-F3CB5E4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78F9-275A-4C9F-92AB-F3041CC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E25-F6D4-4DAE-83A6-4FC6229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0E79-830F-4CED-A33C-789A8F0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8B2B-EA16-4574-9AB1-D770CBA0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4F2B5-48A8-4D63-81E0-F81CC593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9F44-268B-4CC4-80C2-E97C0D29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83FA-6756-4167-95A7-AFBE2D33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A3E3-0973-466F-A40E-92E2FA1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DA99-65C0-47F0-8131-8E0A4C8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9316-462D-4099-87A9-4C6DE1D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9A48-1888-4494-8831-D2FE0AF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B7F6-C9BB-47B5-ABFD-565B8D0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C25-9209-498F-8DA5-3CEDFDF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DD28-BDC2-42BE-A917-7473648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4D62F-EC8E-487C-9422-50274CD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B4E4-4240-40AA-87DA-F5A86E29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11C1-06F0-4295-9149-A66C3163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D28D-A3DD-4010-B389-9021451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ED61-F29E-4EED-9B54-CA4099EB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29437-D5DA-4C7E-A47C-62AAD911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88F2A-C49F-4A78-AD83-E7704CB3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5C3B5-AD42-42AC-B508-5696FFD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8ABA9-5FC0-4EEE-8968-9969084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E52-37BE-488F-9D69-09CC17E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B5B6-E995-4BF1-9FA2-26F5487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4E24-D623-429E-B745-7C552E8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19CF-C83C-4C1D-8759-957E65B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D9816-AA30-42A2-8B0F-D906C9B7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F4D99-8E1F-4240-A4AF-A64DCE97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F455-EE34-4933-8757-A7640C42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0029-9CF5-4331-A935-255BC8D3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1EAAB-48F4-45EB-86D1-F0EA6D62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5822B-F69E-4831-8A1A-0B4A1BEB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3392E-7884-4C95-96D3-95FCB7C8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74B19658-6C97-475E-A17F-A57CE7E74ECF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C21-D465-48A7-BEDB-8A025B90A1E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BD9B1FB-5493-4A5D-BC44-036929E3E7A0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3BE-CD7F-48AA-AACB-0182C241506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4EDD28BC-A27B-4FFE-B943-3500AACD38F8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8EC-0318-4B9A-AE88-96417426435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77CEFC93-64E0-4039-ABE8-DE22227AFBAE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34C-69F6-4093-BDF8-1E8BEE1EA6E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5FA6DAB-0268-4EAB-853A-CEF93451DEB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031-944C-4E0B-9020-D144F80914A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4F0EA86-FD43-4158-90A8-E65EC980739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A95B-98FB-4329-86A7-5D2CB7014E9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9EA6054-9E37-4347-8856-F4034564783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7D69-1DB2-4B1C-8FC5-1808DBAFDDE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54FF1CA-D36B-405E-85E8-7F0DA6CA806E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CA1-9C0B-452A-965A-7267A67A5F6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70C04110-77BA-4905-826B-3B2F87B5ED1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07D-B38F-4A50-B204-8A9359129BC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094D93A-8069-4F91-96F8-8004F3B4935D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F9D-FA0A-4C1A-B1A2-E50F20DDB55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36B2615-736D-4523-A462-C5406C64A95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25F-87C7-40E1-B1EA-164A1EA7FF6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5E0A729A-75C3-4154-AA30-2331DB17452C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768-709B-4D5F-B099-CA33B9B4328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6A7FC89-3618-41CE-B786-04F6D1EFC082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OPINNÄYTETYÖ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lttikir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32"/>
          <p:cNvSpPr/>
          <p:nvPr/>
        </p:nvSpPr>
        <p:spPr>
          <a:xfrm>
            <a:off x="-6764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7400880" y="5610240"/>
            <a:ext cx="151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7315200" y="5703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7"/>
          <p:cNvSpPr/>
          <p:nvPr/>
        </p:nvSpPr>
        <p:spPr>
          <a:xfrm>
            <a:off x="3578400" y="825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8"/>
          <p:cNvSpPr/>
          <p:nvPr/>
        </p:nvSpPr>
        <p:spPr>
          <a:xfrm>
            <a:off x="-333360" y="9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BC39CBA7-2339-4B6D-B0DE-69B9CDCA3FBB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Ä? 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15 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ein yksilötyön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isältää itsenäisen työn, seminaarit ja ohjauks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ettävä itsenäiseen työskentelyyn, työn aikatauluttamiseen ja raportoint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= suunnittelutehtävä, tuote- tai kehittämisprojekti, tietojärjestelmän luonti tai tutkimus riippuen ala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21AA7A1-7A23-4FC8-A3D5-30561562213E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deoita alan ammattilehdi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ustelut muiden opiskelijoiden ja opettaja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Yhteistyössä yritysten ja yhteisöje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mmattiopintojen alalta, työelämälähtö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malta kannalta kiinnos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harjoittelusta aih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hanneorganisaatiolta kysymää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0248AC4-F4ED-40C9-9802-E110D2AF5B58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iheeltaan ja taustaltaan riittävän perustelt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jankohtainen ja realist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Mieluummin suppea ja syvä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äytännönlähe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nalyyttinen, looginen ja hyödy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 lähteitä ja tiedonhankitataitoj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ohtiva ja kantaa ot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FF8A95A-0A17-4710-B41D-E9A7380951DF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Esimerkkejä aiheis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rastoinnin kehittäminen metallialan yrityksess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veitsiläismatkailijat Suomen järvialueel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ilitoimistojen kehittäminen: kohteena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Höyrykattilan kattilansuojan ja öljynpoltinlogiikan modernisoint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ehtävä: Selvitä kirjastosta, millaisia opinnäytetöitä alallasi on tehty. Ks. Sisällysluettelo, pohdinta ja läht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2D204A56-8649-4616-BB13-CC1B2A2CE6BC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uu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6760" y="1785960"/>
            <a:ext cx="8286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, että opiskelija kykenee ratkaisemaan ongelm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elvitä arviointikriteer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psyysnäyte pakollinen, mutta ei vaikuta arvosan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6226D6F-CADD-4F94-9838-21338FA052B4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si ei etene?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Liian suuret vaatimukset työn suht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elko epäonnistumise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so työmäärä pelo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kiir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taminen jumi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8E99CEE-C254-4C09-B60C-BE4CDD181F9F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n aikatauluttaminen sisällysluoettelon perusteella mahdollisimman pieniin os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sennoidu oikein kirjoitta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ity vain yhteen pieneen osaan kerrall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Esim. kirjoita yhdestä aiheesta sivu/päiv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Älä mieti arvosanaa, vaan keskity asiaan ja teke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F921B95-8635-47AB-9DFE-AEA2FC137C4D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1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a asia siten kuin itse sen ymmärrä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et ymmärrä, mitä ohjaaja sanoo, pyydä selvenny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ahdistaa, muuta ajatustapaasi ja ajattele sitä, mitä saavutat, kun työ valmistu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ko itsees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7:59Z</dcterms:created>
  <dc:creator>Sakke</dc:creator>
  <dc:description/>
  <dc:language>en-US</dc:language>
  <cp:lastModifiedBy>ra</cp:lastModifiedBy>
  <dcterms:modified xsi:type="dcterms:W3CDTF">2009-11-16T11:53:51Z</dcterms:modified>
  <cp:revision>17</cp:revision>
  <dc:subject/>
  <dc:title>PowerPoint Presentation</dc:title>
</cp:coreProperties>
</file>