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move the slide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EA41-DFE8-45C1-A28B-DE795C4125A7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81D3-F3E0-471E-8643-A54CA6B00FB3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Lisää tietosi alapalkkiin seuraavasti: Valitse ”View” valikosta” Master” ja sen alta” Slide Master”. Lisää tietosi napsauttamalla alhaalla oikealla olevaa tekstikenttää. Palaa takaisin valitsemalla ”View” ja sen alta ”Normal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CF08-A553-4D6C-8D64-1067253CF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CD3E-59D5-4E63-A093-756DBC57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3B55D-7A3E-4107-94F9-5E64EAD3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32626-B400-4A95-ADC4-AF478EE8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EE31E-D969-4098-80DA-A6DCDD0D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E22C77-EFB4-45BB-A8FB-B62C8DA1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82FB4-9539-458C-AC15-16AEF681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E9393-E515-4B10-9EDA-B2490CFD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A5028-A989-4F81-A8E8-C569466E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B3716-42DE-49D8-BC02-01793D152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F64F7-2660-4916-85E0-7A44AE24B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DD3AE5-4910-4534-9B2B-1161CFCE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2619-20A1-4440-A64F-F9D1BEC89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910E9-6922-4BB7-9814-A1B05046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D5027-F22E-485F-8D55-7C034175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BB0FC-9B9F-4B67-9261-1A74F91D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6B8E4-BCA1-480F-8FCD-2FD1603C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EBA218-354F-47E0-9978-56428C98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67C30-76AC-4219-9725-D7FB31EB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E050F-F9A4-49AB-9C7D-06915836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AD396E-F9F1-446B-90F8-B2899CD3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7FF631-D6D5-42B1-A57F-E4618382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2C50C4-ED95-46CB-9BF0-28506F9D3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F5D3-F7C3-4A78-AC51-143BADC7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51041-3A12-4FF2-AF9F-5048D423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A5FFA-A9EB-4BFE-A476-013D625A0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DFEDE-D3B3-4EC3-BD92-74315F7E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9836C-BA2F-4F09-90F5-4873B405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14F0E-1A85-4FB1-87EF-5B60F165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292D4-C17C-4655-A6C5-736E10DF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F7F86-1E44-4409-8F48-DFA79C87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146E4-4AC5-4BD4-B7C2-F050F3D2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E7C4F9-6EB5-4DFA-8D33-9FD88BB4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EE743-C107-452B-AB6A-2241C04F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8AA3-1A4D-4E29-99F8-DCD324EBE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DD277-C1DD-4267-BBE4-0D84994B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34C16-DEC6-4CDE-BDF6-AEB1C4E8B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A8A64-EC87-47CA-9FB1-7EE4CD1C0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E59A6-2164-44D9-A03B-90BF32D31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02CE79-392F-46F3-B69D-DC26826E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2CA091-620E-4067-AF37-C3F6ED71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85B3FC-CE4B-4070-BEAA-7BE55650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AD6DD2-5034-4C6D-9C80-AB56C409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B76962-A75F-4FD8-8C1A-3E1B1EA6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9A4B6-6476-4823-89C0-4F5641BA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0D0A-EB0A-4869-879F-989CFFAD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E7225-6140-451C-A674-8BEBB38B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E12C9E-997B-46C3-A6EB-26C27BB9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B41E9-0CC0-417B-9F51-0FC769E8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89973A-56CC-444E-991A-2612FA48A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379353-6375-434B-A867-6A638120D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4834-8596-4BA0-AC59-51E1DC02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5F60-1D04-4410-9C5A-30F90720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A6EC-A2C6-4F5B-A726-A3B8B12D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2759-478F-43CE-9124-247B72FE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9B79-8C91-4063-B77F-6B483FC6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7BF4-875B-4FD1-B888-04F0CCBF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DF44-FFBC-430C-8348-292F9264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3740-03A5-4D6A-84E6-0C20D58A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872A-C6A9-4E60-AFC1-AD9B6D71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6340-913A-465B-8DA1-7687975A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629A-3A7D-4811-BBB1-688CDE4F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F2BD4-1F45-46E3-A9E4-38FB8C314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DDFCD-28DE-4076-A3A0-8573A5AB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2F2C7-7B8F-4B35-8824-C94AA897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8A7E1-9CFC-4B2C-B4F7-EE921EED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EF588-A826-4A1E-A04B-1F48DE36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05FF-BC26-48C4-9493-D08D5C96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375ED-C3A9-4875-8AFA-60A1B270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E0F4C-3502-4383-9CF7-19277AB5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174F8-9056-45D6-A240-F1576B68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5A33E-A111-4A02-A40D-13614F59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74B65-B9D7-4125-9C0B-B507734C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905A4-13FF-4404-B338-D39A7EBFA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DD4D6-872D-4F02-9ED6-7063D71FA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2FB6D-CA21-4CDB-8CE7-E37B16FE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6DF4C-525F-4E90-A52B-CA24644F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32CFD-FB47-4227-B5A8-BD504DA2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E19E-DB11-4193-93E3-9A10308B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562BA-7FA0-4158-B9CF-57E874FE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77D95-2DB1-45D8-B424-E2B62A6C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8674C-A849-40C9-9AE8-A200CB21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D04F0-4C9E-4F50-BF76-969E479E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5184D-79F5-48D5-90E7-58071756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7829B-7AC9-44CB-93E1-751BB29F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9D835-34BB-40A6-8751-7250DF46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99AEE-FC3A-4002-A4B4-36176F44F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927CD-DD42-452D-853A-BA0241028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F7506-BBC2-499A-B7E4-4DFAC7285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C218-CB89-4183-8BAF-8F056586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5FC36-1B58-411D-9076-245BF0E3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23E7D-6B0F-49CA-8ED6-13416C77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45840-D850-42EF-8285-52702DDD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BF76A-19E1-4FDA-B7DB-2F5D1648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44F49-E747-45AE-A24B-0DF25447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4C4B3-1078-4A87-A702-3A6C6043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C12F1-BF3A-4E03-BD5B-C2A157B8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F2736-D53A-4752-B91C-7A7C908D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79A86-43E8-4C69-8407-A43D04E6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D16AC-A731-48B9-A9EC-6D98D894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1FD9-C672-409F-9C91-1DED2486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EFB0B-8478-41F4-A17C-6E5ABD4A7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A7FFC-B691-4249-872B-AC1D14BF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F524A-8852-4794-B693-D5E01C3B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B2438-4395-4A1C-82C9-75006AAF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2A45A-85EC-4A4A-AF9A-338DBD21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1AD69-E2C5-44B5-A09F-F552C284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9D174-2DDD-4E30-B59F-8330437D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BEF72-6EA7-4278-A35A-0ADEFF71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0DFD8-2497-4648-BCA3-737361EC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5DFDC-26A3-48C4-9F4A-C2DD0075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4FFB-7B1E-4926-BB7E-DA6E9C29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48669-8C9D-45F7-9415-CC121FC9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5433C-3920-4869-8719-C67F9DD24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00AFE-5BF5-4E7E-80B7-7E7EE8423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39566-DF48-4549-BD1E-4091913B8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FBB8F-261F-4FC0-AB22-9699E646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75D56-192F-494F-B736-EAEFCB78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1F2B1-D971-40F5-8A82-6B6BD2C3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36518-4B04-4F0F-8FF5-71489A9D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C38B0-54BE-465F-84C8-EFCA02FC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DD58B-AF4B-45C1-9370-7871A561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B34D-F5F2-458A-8550-6B890BE3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14658-D0DA-4E48-8E0D-39318567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F6CF9-F9A3-4EC7-8F0B-9E06909A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E87FA-99A9-4BBA-B1D3-37AC90FE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C7C95-7D82-43E2-B3D7-5C1D70F73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49A96-D276-451E-A4CE-32420A661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D3E6E-05E6-4D69-AFC4-41F8F506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7ED5E-EB4B-4027-B5D4-95C348ED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647FE-DE44-45D0-B8F3-8E5DAABE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EABFE-56D5-4F78-AB5A-924E91C6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A72AA-B9DE-4CCB-B0CD-B4DC6BA9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308E-3751-4BB4-8835-7C9D5F2C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F12B9-B3CC-494B-978C-0531C22C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6C0EB-39E5-4CA2-8DAD-96412AEC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EBCB9-C871-441D-B890-D734E205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FF787-661B-417C-811D-F429D0B5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E0438-05A2-422C-9506-B612BC91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BF95B-0EF2-4724-BA26-A0BAB8F4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AF181-C053-4954-BA23-D97B6B40F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57DAD-8B30-4A5C-8BF3-5E94CFA01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6578D-180D-4AF3-85D9-4120A0F0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773A9-7568-48BE-9F84-5AA4A853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4B2F1A69-B6C8-41C4-8A5A-3ED4A63F75A4}" type="datetime3">
              <a:rPr b="0" lang="fi-FI" sz="900" spc="-1" strike="noStrike">
                <a:solidFill>
                  <a:srgbClr val="000000"/>
                </a:solidFill>
                <a:latin typeface="Gill Sans"/>
              </a:rPr>
              <a:t>30. heinäkuuta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492B-742E-40A6-93AF-59D41EF6B256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9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CEC4E72C-053D-4A5D-9C8B-F2621BE39BF7}" type="datetime3">
              <a:rPr b="0" lang="fi-FI" sz="2400" spc="-1" strike="noStrike">
                <a:solidFill>
                  <a:srgbClr val="000000"/>
                </a:solidFill>
                <a:latin typeface="Gill Sans"/>
              </a:rPr>
              <a:t>30. heinäkuuta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0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1301-B757-4DE6-B9FF-94A5E4E5EEA1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2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18053E94-555A-49C0-94A9-D8F4CA71D1D9}" type="datetime3">
              <a:rPr b="0" lang="fi-FI" sz="2400" spc="-1" strike="noStrike">
                <a:solidFill>
                  <a:srgbClr val="000000"/>
                </a:solidFill>
                <a:latin typeface="Gill Sans"/>
              </a:rPr>
              <a:t>30. heinäkuuta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3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7B91-E23C-46C2-A969-96F7ECB73485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35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ED0C266D-B063-430C-A104-EDCD2A61B44B}" type="datetime3">
              <a:rPr b="0" lang="fi-FI" sz="2400" spc="-1" strike="noStrike">
                <a:solidFill>
                  <a:srgbClr val="000000"/>
                </a:solidFill>
                <a:latin typeface="Gill Sans"/>
              </a:rPr>
              <a:t>30. heinäkuuta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6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E0BF-2C97-42BC-A8C6-6E73A870E5A2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EAD2B036-26E1-4FB3-9DDD-6E69A63498E8}" type="datetime3">
              <a:rPr b="0" lang="fi-FI" sz="2400" spc="-1" strike="noStrike">
                <a:solidFill>
                  <a:srgbClr val="000000"/>
                </a:solidFill>
                <a:latin typeface="Gill Sans"/>
              </a:rPr>
              <a:t>30. heinäkuuta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8E0D-4CC7-4169-AA00-CF08231CFAF1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A6750980-CC62-4598-8AF3-1427DEB48BE6}" type="datetime3">
              <a:rPr b="0" lang="fi-FI" sz="2400" spc="-1" strike="noStrike">
                <a:solidFill>
                  <a:srgbClr val="000000"/>
                </a:solidFill>
                <a:latin typeface="Gill Sans"/>
              </a:rPr>
              <a:t>30. heinäkuuta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8407-D1BA-4805-B6D7-911D79285B1A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3BBB196B-BA09-4B89-8931-C78CDCAF9689}" type="datetime3">
              <a:rPr b="0" lang="fi-FI" sz="2400" spc="-1" strike="noStrike">
                <a:solidFill>
                  <a:srgbClr val="000000"/>
                </a:solidFill>
                <a:latin typeface="Gill Sans"/>
              </a:rPr>
              <a:t>30. heinäkuuta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C4D5-25D2-45BE-AAC0-42625F497FFF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CA6CA9C2-442E-4D38-9085-7DD2105CB94F}" type="datetime3">
              <a:rPr b="0" lang="fi-FI" sz="2400" spc="-1" strike="noStrike">
                <a:solidFill>
                  <a:srgbClr val="000000"/>
                </a:solidFill>
                <a:latin typeface="Gill Sans"/>
              </a:rPr>
              <a:t>30. heinäkuuta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7FBE-5EDD-4DE8-98E5-26CF0127C13B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A0179BFE-041A-4FA0-9385-946DB652978D}" type="datetime3">
              <a:rPr b="0" lang="fi-FI" sz="2400" spc="-1" strike="noStrike">
                <a:solidFill>
                  <a:srgbClr val="000000"/>
                </a:solidFill>
                <a:latin typeface="Gill Sans"/>
              </a:rPr>
              <a:t>30. heinäkuuta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2556-1DF1-4CE4-80C9-8ECED30D9221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AC5E60A9-AB76-4B89-BF2E-9E20207C4218}" type="datetime3">
              <a:rPr b="0" lang="fi-FI" sz="2400" spc="-1" strike="noStrike">
                <a:solidFill>
                  <a:srgbClr val="000000"/>
                </a:solidFill>
                <a:latin typeface="Gill Sans"/>
              </a:rPr>
              <a:t>30. heinäkuuta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39AB-25F6-4870-9104-A28C82DECDE0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32CEEBC2-D632-4358-B3D3-110328E4683A}" type="datetime3">
              <a:rPr b="0" lang="fi-FI" sz="2400" spc="-1" strike="noStrike">
                <a:solidFill>
                  <a:srgbClr val="000000"/>
                </a:solidFill>
                <a:latin typeface="Gill Sans"/>
              </a:rPr>
              <a:t>30. heinäkuuta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434D-06C5-4982-BE66-832EAAAE5FEB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296B2B23-0657-42B3-86FB-3D52735714D4}" type="datetime3">
              <a:rPr b="0" lang="fi-FI" sz="2400" spc="-1" strike="noStrike">
                <a:solidFill>
                  <a:srgbClr val="000000"/>
                </a:solidFill>
                <a:latin typeface="Gill Sans"/>
              </a:rPr>
              <a:t>30. heinäkuuta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A2F8-DF80-40E9-91E8-16514F6DA265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oter Placeholder 4"/>
          <p:cNvSpPr/>
          <p:nvPr/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D2825B69-1816-4500-9679-BFDB753A7C2E}" type="datetime3">
              <a:rPr b="0" lang="fi-FI" sz="900" spc="-1" strike="noStrike">
                <a:solidFill>
                  <a:srgbClr val="000000"/>
                </a:solidFill>
                <a:latin typeface="Gill Sans"/>
              </a:rPr>
              <a:t>30. heinäkuuta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f207e"/>
                </a:solidFill>
                <a:latin typeface="Gill Sans"/>
              </a:rPr>
              <a:t>OPINNÄYTETYÖ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Valttikiri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Rectangle 32"/>
          <p:cNvSpPr/>
          <p:nvPr/>
        </p:nvSpPr>
        <p:spPr>
          <a:xfrm>
            <a:off x="-676440" y="10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34"/>
          <p:cNvSpPr/>
          <p:nvPr/>
        </p:nvSpPr>
        <p:spPr>
          <a:xfrm>
            <a:off x="7400880" y="5610240"/>
            <a:ext cx="151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35"/>
          <p:cNvSpPr/>
          <p:nvPr/>
        </p:nvSpPr>
        <p:spPr>
          <a:xfrm>
            <a:off x="7315200" y="570384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7"/>
          <p:cNvSpPr/>
          <p:nvPr/>
        </p:nvSpPr>
        <p:spPr>
          <a:xfrm>
            <a:off x="3578400" y="8251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38"/>
          <p:cNvSpPr/>
          <p:nvPr/>
        </p:nvSpPr>
        <p:spPr>
          <a:xfrm>
            <a:off x="-333360" y="974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Footer Placeholder 4"/>
          <p:cNvSpPr/>
          <p:nvPr/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928028CC-9C93-4802-8259-6E2B4E3DB757}" type="datetime3">
              <a:rPr b="0" lang="fi-FI" sz="900" spc="-1" strike="noStrike">
                <a:solidFill>
                  <a:srgbClr val="000000"/>
                </a:solidFill>
                <a:latin typeface="Gill Sans"/>
              </a:rPr>
              <a:t>30. heinäkuuta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f207e"/>
                </a:solidFill>
                <a:latin typeface="Gill Sans"/>
              </a:rPr>
              <a:t>MIKÄ? 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777240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15 op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Usein yksilötyönä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Sisältää itsenäisen työn, seminaarit ja ohjaukse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Kyettävä itsenäiseen työskentelyyn, työn aikatauluttamiseen ja raportointii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= suunnittelutehtävä, tuote- tai kehittämisprojekti, tietojärjestelmän luonti tai tutkimus riippuen alas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Footer Placeholder 4"/>
          <p:cNvSpPr/>
          <p:nvPr/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35C32A5A-BB22-4B87-9C9E-DE08240DB36E}" type="datetime3">
              <a:rPr b="0" lang="fi-FI" sz="900" spc="-1" strike="noStrike">
                <a:solidFill>
                  <a:srgbClr val="000000"/>
                </a:solidFill>
                <a:latin typeface="Gill Sans"/>
              </a:rPr>
              <a:t>30. heinäkuuta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f207e"/>
                </a:solidFill>
                <a:latin typeface="Gill Sans"/>
              </a:rPr>
              <a:t>Aiheen valinta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42960" y="1785960"/>
            <a:ext cx="777240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Ideoita alan ammattilehdistä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Keskustelut muiden opiskelijoiden ja opettajan kanss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Yhteistyössä yritysten ja yhteisöjen kanss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Ammattiopintojen alalta, työelämälähtöin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Omalta kannalta kiinnostav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Työharjoittelusta aih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Ihanneorganisaatiolta kysymään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Footer Placeholder 4"/>
          <p:cNvSpPr/>
          <p:nvPr/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6C19AFBA-4F81-4BC1-9F69-F57F02101CC8}" type="datetime3">
              <a:rPr b="0" lang="fi-FI" sz="900" spc="-1" strike="noStrike">
                <a:solidFill>
                  <a:srgbClr val="000000"/>
                </a:solidFill>
                <a:latin typeface="Gill Sans"/>
              </a:rPr>
              <a:t>30. heinäkuuta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f207e"/>
                </a:solidFill>
                <a:latin typeface="Gill Sans"/>
              </a:rPr>
              <a:t>Aiheen valinta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42960" y="1785960"/>
            <a:ext cx="777240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Aiheeltaan ja taustaltaan riittävän perusteltu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Ajankohtainen ja realistin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Mieluummin suppea ja syvällin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Käytännönlähein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Analyyttinen, looginen ja hyödyllin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Osoittaa lähteitä ja tiedonhankitataitoj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Pohtiva ja kantaa ottav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Footer Placeholder 4"/>
          <p:cNvSpPr/>
          <p:nvPr/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D0E9F952-EC98-46BF-9910-E0CA02DDE07E}" type="datetime3">
              <a:rPr b="0" lang="fi-FI" sz="900" spc="-1" strike="noStrike">
                <a:solidFill>
                  <a:srgbClr val="000000"/>
                </a:solidFill>
                <a:latin typeface="Gill Sans"/>
              </a:rPr>
              <a:t>30. heinäkuuta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f207e"/>
                </a:solidFill>
                <a:latin typeface="Gill Sans"/>
              </a:rPr>
              <a:t>Esimerkkejä aiheista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42960" y="1785960"/>
            <a:ext cx="777240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Varastoinnin kehittäminen metallialan yrityksessä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Sveitsiläismatkailijat Suomen järvialueell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Tilitoimistojen kehittäminen: kohteena…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Höyrykattilan kattilansuojan ja öljynpoltinlogiikan modernisointi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Tehtävä: Selvitä kirjastosta, millaisia opinnäytetöitä alallasi on tehty. Ks. Sisällysluettelo, pohdinta ja lähtee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Footer Placeholder 4"/>
          <p:cNvSpPr/>
          <p:nvPr/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984D76B6-DB09-4197-9B3A-548F020C4BD3}" type="datetime3">
              <a:rPr b="0" lang="fi-FI" sz="900" spc="-1" strike="noStrike">
                <a:solidFill>
                  <a:srgbClr val="000000"/>
                </a:solidFill>
                <a:latin typeface="Gill Sans"/>
              </a:rPr>
              <a:t>30. heinäkuuta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f207e"/>
                </a:solidFill>
                <a:latin typeface="Gill Sans"/>
              </a:rPr>
              <a:t>Muuta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56760" y="1785960"/>
            <a:ext cx="828684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Osoittaa, että opiskelija kykenee ratkaisemaan ongelmi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Selvitä arviointikriteeri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Kypsyysnäyte pakollinen, mutta ei vaikuta arvosanaa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Footer Placeholder 4"/>
          <p:cNvSpPr/>
          <p:nvPr/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D6079A00-0926-4B60-98C9-F66FC98E7E94}" type="datetime3">
              <a:rPr b="0" lang="fi-FI" sz="900" spc="-1" strike="noStrike">
                <a:solidFill>
                  <a:srgbClr val="000000"/>
                </a:solidFill>
                <a:latin typeface="Gill Sans"/>
              </a:rPr>
              <a:t>30. heinäkuuta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f207e"/>
                </a:solidFill>
                <a:latin typeface="Gill Sans"/>
              </a:rPr>
              <a:t>Miksi ei etene?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42960" y="1785960"/>
            <a:ext cx="777240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Liian suuret vaatimukset työn suhte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Pelko epäonnistumises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Iso työmäärä pelotta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Työkiiree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Kirjoittaminen jumitta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ooter Placeholder 4"/>
          <p:cNvSpPr/>
          <p:nvPr/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C185FF53-8CCC-4D96-90CA-63ED7E0AFCF8}" type="datetime3">
              <a:rPr b="0" lang="fi-FI" sz="900" spc="-1" strike="noStrike">
                <a:solidFill>
                  <a:srgbClr val="000000"/>
                </a:solidFill>
                <a:latin typeface="Gill Sans"/>
              </a:rPr>
              <a:t>30. heinäkuuta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f207e"/>
                </a:solidFill>
                <a:latin typeface="Gill Sans"/>
              </a:rPr>
              <a:t>Vinkkejä työskentelyyn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42960" y="1785960"/>
            <a:ext cx="777240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Työn aikatauluttaminen sisällysluoettelon perusteella mahdollisimman pieniin osii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Asennoidu oikein kirjoittamise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Keskity vain yhteen pieneen osaan kerrallaa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Esim. kirjoita yhdestä aiheesta sivu/päivä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Älä mieti arvosanaa, vaan keskity asiaan ja tekemise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oter Placeholder 4"/>
          <p:cNvSpPr/>
          <p:nvPr/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00FBFA36-0DD3-415A-AAC3-4A0613031BD9}" type="datetime3">
              <a:rPr b="0" lang="fi-FI" sz="900" spc="-1" strike="noStrike">
                <a:solidFill>
                  <a:srgbClr val="000000"/>
                </a:solidFill>
                <a:latin typeface="Gill Sans"/>
              </a:rPr>
              <a:t>30. heinäkuuta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f207e"/>
                </a:solidFill>
                <a:latin typeface="Gill Sans"/>
              </a:rPr>
              <a:t>Vinkkejä työskentelyyn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42960" y="1785960"/>
            <a:ext cx="777240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Kirjoita asia siten kuin itse sen ymmärrä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Jos et ymmärrä, mitä ohjaaja sanoo, pyydä selvennystä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Jos ahdistaa, muuta ajatustapaasi ja ajattele sitä, mitä saavutat, kun työ valmistuu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Usko itseesi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1:37:59Z</dcterms:created>
  <dc:creator>Sakke</dc:creator>
  <dc:description/>
  <dc:language>en-US</dc:language>
  <cp:lastModifiedBy>ra</cp:lastModifiedBy>
  <dcterms:modified xsi:type="dcterms:W3CDTF">2009-11-16T11:53:51Z</dcterms:modified>
  <cp:revision>17</cp:revision>
  <dc:subject/>
  <dc:title>PowerPoint Presentation</dc:title>
</cp:coreProperties>
</file>