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07e"/>
                </a:solidFill>
                <a:latin typeface="Gill Sans"/>
              </a:rPr>
              <a:t>Click to move the slide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2A0C-F6C2-4D84-BF00-49CB557D8669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8D72-C452-4303-A4E0-6CAA1ADAD9A7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Lisää tietosi alapalkkiin seuraavasti: Valitse ”View” valikosta” Master” ja sen alta” Slide Master”. Lisää tietosi napsauttamalla alhaalla oikealla olevaa tekstikenttää. Palaa takaisin valitsemalla ”View” ja sen alta ”Normal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87CE-DD04-4783-98B1-503E34AE8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9E35-ADD0-4A54-88C2-EC650B72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92FFC4-B3E4-48E0-AA8C-6B0D99D2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AD933B-8A3A-4DDE-A2BA-A573F04D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EA703-1EE2-4BAD-B20B-A6752497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1BFA19-523F-4374-9DFF-75F296FF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58F9EB-3C12-40D4-952C-7F5D8CD0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A7C8A9-3AAA-4989-8BDF-8DAFF22A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D25068-4FA2-4EEC-B331-218E4C6A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5036BE-942E-43DB-8F40-FCCEF7F14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CA60F7-91DC-499A-B071-9A34FC716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0F3EB9-B675-4FDD-8971-1875490D7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337D-59CC-42F3-ACC9-068C74F71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F539F9-7B90-4CE7-9E6D-7C856EDA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8B830D-8ABE-48F1-A560-7E569EC0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52A453-4FB5-4460-B945-75DB9268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2382FE-DF2D-4356-A9E7-A0865B0F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A4262D-9812-428F-AA3E-26B1D971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96BDB3-5274-4A90-A147-3052D717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0449E3-7ECD-49F2-BA82-A5D2A3B9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0185F4-E82C-4812-ADDD-E8F3489F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C44E64-49B2-4A11-9743-774E11F7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69BE96-EF32-43CA-BBF0-D133E7CA0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D499-626F-4903-B131-19B77321D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5D5937-12B8-4721-A4EB-4514D3A46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B35D55-FCAD-4730-A200-89D722E03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F7A034-5FF4-4EE9-A0FF-9E59FF52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E96F1D-D2A5-4F4E-99EB-1FD809AD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770066-7344-4804-B5EE-ED5BBFAC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B5946-9ACA-41BB-95CF-1B1F930D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3AAB1E-43FC-440E-BF41-61D11579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6E6C5-BA6D-4009-A198-31C4A552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A12D19-95A3-4C20-BEEB-30C013A3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5A3761-CC8C-42A0-A8C1-4AE0C11F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3C2F-62F1-4653-B282-7B5ADDD9F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7DED6-D146-477D-8581-155B81D1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DE9FF0-51AD-426E-BEAA-5002957AC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B33E5-3B26-4501-9D91-91F42597F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39B3E8-989B-48AF-AEFF-1A788CE62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65CF9B-4FF6-4719-98E9-CA940FC9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9316B2-3484-4472-9790-C8DD19AF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8DED8A-9C5C-488F-A2A6-7764E3D9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A6AE40-5036-46F4-B88C-5176989E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22CB95-86B1-4193-80AA-0F66D150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105AE5-954D-402D-B9A0-45EDD6AE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56805-A399-419C-8554-CAFE546A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745353-793C-435D-B5DC-3B67FF7C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5DA70A-B39E-4F77-A2CD-F49F2CBD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EBD4BA-E4FB-45F6-A453-B9644763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BACCEE-C924-4C0D-BF62-C02A9BBDA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E18DE1-8F68-4FC9-A2A0-98707EE04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2077-7463-440D-8C86-136D256C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22ED1-48F2-4CE8-B858-3A52E1CB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B569-6973-462E-9BE3-7ACB0F46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B7F9E-A550-4D81-84BB-5D8581D7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99E98-492B-4A4C-97BF-66594AAF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FA7F-F4AA-41C0-81E5-176DA5D1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4E0E-A1DB-4886-AA36-91AAA9E6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B8F1-FCDF-4B02-A59E-13EA14AF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2A27-8448-4708-9247-DA33D10A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70F0-85D5-42F2-A7C6-300F3FE37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092B-5E0D-4001-933A-935F6E8B5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AFC56-BFEA-4C1E-8955-4E252DACD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5304A-F206-4445-A4F4-B11D997D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793A4-B886-467F-A946-F14F5CD7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AABD3-148A-44BC-BFDB-5B88AEFC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7301C-B397-42D5-904A-6EE18DB0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A062-A81B-4134-909E-864EC416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7E42A-5AA9-4BE4-AC4B-3F6076E2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E1C85-88D0-4793-B2EC-B9DBA9BD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71DBD-DD73-4487-B12E-9CDFDB4B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FFEA1-7566-4A06-B83D-D4FB550A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44247-2CC4-415F-8833-AF858D5D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E7A98-A2CC-4B8E-90AB-0A6496A5D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8E84B-9815-440A-96B8-D32E502A3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034B6-6842-4C51-BE34-26E6E3C31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3FEF5-EBF1-4877-BFE3-226E61C9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7A78D-55FF-4CF1-AEC8-3CFA2441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1371-9D15-4566-BC05-E76D0C84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B6485-9E41-4B15-959B-C603651B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558D5-D1F0-4525-A969-2083669A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CAD9C-3691-482E-855B-BBA65251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2E39F-935B-49EC-95B4-0E198EF3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D01D9-D5FF-4526-AC42-E44E01D5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00D57-68F6-4B14-996B-1BFC2C61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8CEFA-6A2C-4E18-BEB3-46C489AD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38E95-1627-4A90-B26B-6E49AC74A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3E4D6-F37D-40CC-8370-E1A4EB1EF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C902F-2388-4934-AFC9-E20801F6B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4E67-2CAC-4B3B-9E45-561B3A98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76C43-A022-4837-8556-7BAECCBE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1F65E-1D0A-410F-9540-3672DFB0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71277-211F-4F10-B587-47258D79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229A0-38AC-470F-9B0B-ACC58701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DA13E-8A32-40A4-9353-CA94F186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4DC18-4E92-495B-9C1C-EDEA3518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7AF26-41CA-4D6C-8100-0855C229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2D655-CB21-4814-AEFA-DEFA33FE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437D4-1947-44DE-BA9B-96AFB6E3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F125F-C9CD-4F06-AE4C-9802E9BEA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4247-2356-4072-AF08-06379747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BB692-5619-4905-B0A3-636BFB800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DE1B0-8F53-4324-BB8C-05DAF4467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1EB0F-FE52-42B5-85B4-C408CDF5E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7C8B7-FCF3-4327-835C-2025B141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B5304-2F41-4BB3-9FC3-E7E849B5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79291-8E13-426D-B9E4-8F295DC5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75943-6F08-4945-95F0-689A4E00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BEBC8-75A8-4B02-AE13-747B5A2C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064A3-6320-44BA-A31D-53B7D50F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710C0-110D-4131-B9C3-077D116A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558F-DB2B-45F8-91DF-C3C65289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34C30-9400-4C1C-8465-05F7789B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8B9AB-2752-4F3F-B660-BD8EB2577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0A328-180A-4185-9FCE-EC1DD7EEC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FAF0A-1D98-4D8B-A7EB-91FAF76A7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8340E-711E-479E-958D-6D5A6BBE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E4D89-3129-4846-A9DE-D95FEB1A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E569D-A163-4EF2-9ABE-558F4D44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132A4-8752-4C2C-A96D-02CF7F0B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AE902-BDE6-4B38-89E1-7689947B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CF82B-429D-4413-8FAB-5D7765CD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35DE-4718-426E-BC8B-5410DF3B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A4397-42A1-4439-946C-5DDE6C7D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E56CB-10F4-4EDC-AD54-080E3E87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D696C-11BE-4B4E-9488-2F04C2D3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612DC-9641-42FA-8E0D-AD1B484B2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A80A9-A636-453A-B575-A589C6C9A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B1699-D0C9-490E-9D88-7939A9F9F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E46A5-BA96-4906-A6C8-5964ED48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84065-D701-4F31-A7A9-76FC2368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FBDB4-CBB0-4C5B-B6DA-A022218C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6C00D-82C4-4211-BC67-B0CD5A61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31AF-187B-4C13-9584-40D9E26D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FB8DB-282E-4C35-8509-DB9633AA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7D696-C228-47AF-99AA-1D1FC3F3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B26A1-D932-4D1E-88FB-47670BA9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0BC0D-8CE5-4718-9DEE-5FF44ABD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AEC4F-A595-4A75-9A8C-D2E09D37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1C8C9-1FEC-4F44-A482-9102487A6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D2B5C-0244-43F8-9D8A-B28074F43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E9B59-1A81-4758-A86D-282026DA8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ECD739-CE71-46F1-B70B-B818FCCF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B7D37C-BF3C-4EC6-A35E-C286E4AB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" descr="Valtti_powerpoint_uusin"/>
          <p:cNvPicPr/>
          <p:nvPr/>
        </p:nvPicPr>
        <p:blipFill>
          <a:blip r:embed="rId2"/>
          <a:stretch/>
        </p:blipFill>
        <p:spPr>
          <a:xfrm>
            <a:off x="0" y="7920"/>
            <a:ext cx="9145440" cy="685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07e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A7B53E24-EA50-4260-8FB0-51FC9A477C97}" type="datetime3">
              <a:rPr b="0" lang="fi-FI" sz="900" spc="-1" strike="noStrike">
                <a:solidFill>
                  <a:srgbClr val="000000"/>
                </a:solidFill>
                <a:latin typeface="Gill Sans"/>
              </a:rPr>
              <a:t>31. heinäkuuta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429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50B7-819A-4382-9936-55285DBECE54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10105920" y="367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4378320" y="765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5"/>
          <p:cNvSpPr/>
          <p:nvPr/>
        </p:nvSpPr>
        <p:spPr>
          <a:xfrm>
            <a:off x="9394920" y="787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6"/>
          <p:cNvSpPr/>
          <p:nvPr/>
        </p:nvSpPr>
        <p:spPr>
          <a:xfrm>
            <a:off x="8315280" y="754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17" descr="Valtti_powerpoint_uusin"/>
          <p:cNvPicPr/>
          <p:nvPr/>
        </p:nvPicPr>
        <p:blipFill>
          <a:blip r:embed="rId2"/>
          <a:stretch/>
        </p:blipFill>
        <p:spPr>
          <a:xfrm>
            <a:off x="0" y="7920"/>
            <a:ext cx="9145440" cy="685008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10"/>
          <p:cNvSpPr/>
          <p:nvPr/>
        </p:nvSpPr>
        <p:spPr>
          <a:xfrm>
            <a:off x="10105920" y="367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3"/>
          <p:cNvSpPr/>
          <p:nvPr/>
        </p:nvSpPr>
        <p:spPr>
          <a:xfrm>
            <a:off x="4378320" y="765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5"/>
          <p:cNvSpPr/>
          <p:nvPr/>
        </p:nvSpPr>
        <p:spPr>
          <a:xfrm>
            <a:off x="9394920" y="787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6"/>
          <p:cNvSpPr/>
          <p:nvPr/>
        </p:nvSpPr>
        <p:spPr>
          <a:xfrm>
            <a:off x="8315280" y="754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07e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9"/>
          </p:nvPr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15AA52BD-7990-426D-8997-C06BB607C7F3}" type="datetime3">
              <a:rPr b="0" lang="fi-FI" sz="2400" spc="-1" strike="noStrike">
                <a:solidFill>
                  <a:srgbClr val="000000"/>
                </a:solidFill>
                <a:latin typeface="Gill Sans"/>
              </a:rPr>
              <a:t>31. heinäkuuta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0"/>
          </p:nvPr>
        </p:nvSpPr>
        <p:spPr>
          <a:xfrm>
            <a:off x="3429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088E-CE43-4F5A-A56D-89CCD4686E78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17" descr="Valtti_powerpoint_uusin"/>
          <p:cNvPicPr/>
          <p:nvPr/>
        </p:nvPicPr>
        <p:blipFill>
          <a:blip r:embed="rId2"/>
          <a:stretch/>
        </p:blipFill>
        <p:spPr>
          <a:xfrm>
            <a:off x="0" y="7920"/>
            <a:ext cx="9145440" cy="685008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10"/>
          <p:cNvSpPr/>
          <p:nvPr/>
        </p:nvSpPr>
        <p:spPr>
          <a:xfrm>
            <a:off x="10105920" y="367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3"/>
          <p:cNvSpPr/>
          <p:nvPr/>
        </p:nvSpPr>
        <p:spPr>
          <a:xfrm>
            <a:off x="4378320" y="765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5"/>
          <p:cNvSpPr/>
          <p:nvPr/>
        </p:nvSpPr>
        <p:spPr>
          <a:xfrm>
            <a:off x="9394920" y="787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6"/>
          <p:cNvSpPr/>
          <p:nvPr/>
        </p:nvSpPr>
        <p:spPr>
          <a:xfrm>
            <a:off x="8315280" y="754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07e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2"/>
          </p:nvPr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1E682EE5-36D4-4C7C-AF77-74992E2E436C}" type="datetime3">
              <a:rPr b="0" lang="fi-FI" sz="2400" spc="-1" strike="noStrike">
                <a:solidFill>
                  <a:srgbClr val="000000"/>
                </a:solidFill>
                <a:latin typeface="Gill Sans"/>
              </a:rPr>
              <a:t>31. heinäkuuta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3"/>
          </p:nvPr>
        </p:nvSpPr>
        <p:spPr>
          <a:xfrm>
            <a:off x="3429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4E98-B41A-4B6E-9A32-D2E9B7C92E95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17" descr="Valtti_powerpoint_uusin"/>
          <p:cNvPicPr/>
          <p:nvPr/>
        </p:nvPicPr>
        <p:blipFill>
          <a:blip r:embed="rId2"/>
          <a:stretch/>
        </p:blipFill>
        <p:spPr>
          <a:xfrm>
            <a:off x="0" y="7920"/>
            <a:ext cx="9145440" cy="68500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10"/>
          <p:cNvSpPr/>
          <p:nvPr/>
        </p:nvSpPr>
        <p:spPr>
          <a:xfrm>
            <a:off x="10105920" y="367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3"/>
          <p:cNvSpPr/>
          <p:nvPr/>
        </p:nvSpPr>
        <p:spPr>
          <a:xfrm>
            <a:off x="4378320" y="765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5"/>
          <p:cNvSpPr/>
          <p:nvPr/>
        </p:nvSpPr>
        <p:spPr>
          <a:xfrm>
            <a:off x="9394920" y="787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6"/>
          <p:cNvSpPr/>
          <p:nvPr/>
        </p:nvSpPr>
        <p:spPr>
          <a:xfrm>
            <a:off x="8315280" y="754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07e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35"/>
          </p:nvPr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7D726284-221A-4809-A144-8BEA1E68A607}" type="datetime3">
              <a:rPr b="0" lang="fi-FI" sz="2400" spc="-1" strike="noStrike">
                <a:solidFill>
                  <a:srgbClr val="000000"/>
                </a:solidFill>
                <a:latin typeface="Gill Sans"/>
              </a:rPr>
              <a:t>31. heinäkuuta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36"/>
          </p:nvPr>
        </p:nvSpPr>
        <p:spPr>
          <a:xfrm>
            <a:off x="3429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DC83-8E8D-4FCE-920A-B63655E07045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7" descr="Valtti_powerpoint_uusin"/>
          <p:cNvPicPr/>
          <p:nvPr/>
        </p:nvPicPr>
        <p:blipFill>
          <a:blip r:embed="rId2"/>
          <a:stretch/>
        </p:blipFill>
        <p:spPr>
          <a:xfrm>
            <a:off x="0" y="7920"/>
            <a:ext cx="9145440" cy="68500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10105920" y="367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3"/>
          <p:cNvSpPr/>
          <p:nvPr/>
        </p:nvSpPr>
        <p:spPr>
          <a:xfrm>
            <a:off x="4378320" y="765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5"/>
          <p:cNvSpPr/>
          <p:nvPr/>
        </p:nvSpPr>
        <p:spPr>
          <a:xfrm>
            <a:off x="9394920" y="787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6"/>
          <p:cNvSpPr/>
          <p:nvPr/>
        </p:nvSpPr>
        <p:spPr>
          <a:xfrm>
            <a:off x="8315280" y="754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07e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16320731-48C9-48C6-AD72-BD6B5FE9DDF9}" type="datetime3">
              <a:rPr b="0" lang="fi-FI" sz="2400" spc="-1" strike="noStrike">
                <a:solidFill>
                  <a:srgbClr val="000000"/>
                </a:solidFill>
                <a:latin typeface="Gill Sans"/>
              </a:rPr>
              <a:t>31. heinäkuuta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3429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8B68-7166-41EB-9548-F33C44701210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7" descr="Valtti_powerpoint_uusin"/>
          <p:cNvPicPr/>
          <p:nvPr/>
        </p:nvPicPr>
        <p:blipFill>
          <a:blip r:embed="rId2"/>
          <a:stretch/>
        </p:blipFill>
        <p:spPr>
          <a:xfrm>
            <a:off x="0" y="7920"/>
            <a:ext cx="9145440" cy="68500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0"/>
          <p:cNvSpPr/>
          <p:nvPr/>
        </p:nvSpPr>
        <p:spPr>
          <a:xfrm>
            <a:off x="10105920" y="367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3"/>
          <p:cNvSpPr/>
          <p:nvPr/>
        </p:nvSpPr>
        <p:spPr>
          <a:xfrm>
            <a:off x="4378320" y="765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9394920" y="787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6"/>
          <p:cNvSpPr/>
          <p:nvPr/>
        </p:nvSpPr>
        <p:spPr>
          <a:xfrm>
            <a:off x="8315280" y="754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07e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C1656F1D-BA6D-4239-A3D0-23247684C93C}" type="datetime3">
              <a:rPr b="0" lang="fi-FI" sz="2400" spc="-1" strike="noStrike">
                <a:solidFill>
                  <a:srgbClr val="000000"/>
                </a:solidFill>
                <a:latin typeface="Gill Sans"/>
              </a:rPr>
              <a:t>31. heinäkuuta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3429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FB9F-3060-4F78-8D12-A7DF0222F070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7" descr="Valtti_powerpoint_uusin"/>
          <p:cNvPicPr/>
          <p:nvPr/>
        </p:nvPicPr>
        <p:blipFill>
          <a:blip r:embed="rId2"/>
          <a:stretch/>
        </p:blipFill>
        <p:spPr>
          <a:xfrm>
            <a:off x="0" y="7920"/>
            <a:ext cx="9145440" cy="68500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0"/>
          <p:cNvSpPr/>
          <p:nvPr/>
        </p:nvSpPr>
        <p:spPr>
          <a:xfrm>
            <a:off x="10105920" y="367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4378320" y="765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5"/>
          <p:cNvSpPr/>
          <p:nvPr/>
        </p:nvSpPr>
        <p:spPr>
          <a:xfrm>
            <a:off x="9394920" y="787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6"/>
          <p:cNvSpPr/>
          <p:nvPr/>
        </p:nvSpPr>
        <p:spPr>
          <a:xfrm>
            <a:off x="8315280" y="754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07e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CD96A515-6491-4E87-851D-8FEF2AD3A0C4}" type="datetime3">
              <a:rPr b="0" lang="fi-FI" sz="2400" spc="-1" strike="noStrike">
                <a:solidFill>
                  <a:srgbClr val="000000"/>
                </a:solidFill>
                <a:latin typeface="Gill Sans"/>
              </a:rPr>
              <a:t>31. heinäkuuta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3429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7B98-71D8-4FAB-B0CF-AEF8E7899B28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7" descr="Valtti_powerpoint_uusin"/>
          <p:cNvPicPr/>
          <p:nvPr/>
        </p:nvPicPr>
        <p:blipFill>
          <a:blip r:embed="rId2"/>
          <a:stretch/>
        </p:blipFill>
        <p:spPr>
          <a:xfrm>
            <a:off x="0" y="7920"/>
            <a:ext cx="9145440" cy="685008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0"/>
          <p:cNvSpPr/>
          <p:nvPr/>
        </p:nvSpPr>
        <p:spPr>
          <a:xfrm>
            <a:off x="10105920" y="367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4378320" y="765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9394920" y="787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6"/>
          <p:cNvSpPr/>
          <p:nvPr/>
        </p:nvSpPr>
        <p:spPr>
          <a:xfrm>
            <a:off x="8315280" y="754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07e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5ADA6CA1-DF68-4528-85EF-51C64C5739CB}" type="datetime3">
              <a:rPr b="0" lang="fi-FI" sz="2400" spc="-1" strike="noStrike">
                <a:solidFill>
                  <a:srgbClr val="000000"/>
                </a:solidFill>
                <a:latin typeface="Gill Sans"/>
              </a:rPr>
              <a:t>31. heinäkuuta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3429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74F8-25FA-4720-A649-99436502EE97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17" descr="Valtti_powerpoint_uusin"/>
          <p:cNvPicPr/>
          <p:nvPr/>
        </p:nvPicPr>
        <p:blipFill>
          <a:blip r:embed="rId2"/>
          <a:stretch/>
        </p:blipFill>
        <p:spPr>
          <a:xfrm>
            <a:off x="0" y="7920"/>
            <a:ext cx="9145440" cy="685008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10"/>
          <p:cNvSpPr/>
          <p:nvPr/>
        </p:nvSpPr>
        <p:spPr>
          <a:xfrm>
            <a:off x="10105920" y="367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3"/>
          <p:cNvSpPr/>
          <p:nvPr/>
        </p:nvSpPr>
        <p:spPr>
          <a:xfrm>
            <a:off x="4378320" y="765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9394920" y="787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8315280" y="754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07e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DA3D1C2D-909D-47A9-9D97-74DC751E425D}" type="datetime3">
              <a:rPr b="0" lang="fi-FI" sz="2400" spc="-1" strike="noStrike">
                <a:solidFill>
                  <a:srgbClr val="000000"/>
                </a:solidFill>
                <a:latin typeface="Gill Sans"/>
              </a:rPr>
              <a:t>31. heinäkuuta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3429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5DC6-2313-421F-8FA8-03B3A51FEC5A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17" descr="Valtti_powerpoint_uusin"/>
          <p:cNvPicPr/>
          <p:nvPr/>
        </p:nvPicPr>
        <p:blipFill>
          <a:blip r:embed="rId2"/>
          <a:stretch/>
        </p:blipFill>
        <p:spPr>
          <a:xfrm>
            <a:off x="0" y="7920"/>
            <a:ext cx="9145440" cy="685008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10"/>
          <p:cNvSpPr/>
          <p:nvPr/>
        </p:nvSpPr>
        <p:spPr>
          <a:xfrm>
            <a:off x="10105920" y="367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3"/>
          <p:cNvSpPr/>
          <p:nvPr/>
        </p:nvSpPr>
        <p:spPr>
          <a:xfrm>
            <a:off x="4378320" y="765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5"/>
          <p:cNvSpPr/>
          <p:nvPr/>
        </p:nvSpPr>
        <p:spPr>
          <a:xfrm>
            <a:off x="9394920" y="787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6"/>
          <p:cNvSpPr/>
          <p:nvPr/>
        </p:nvSpPr>
        <p:spPr>
          <a:xfrm>
            <a:off x="8315280" y="754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07e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F62C50CB-B059-4065-A065-CEBF8BEB13CE}" type="datetime3">
              <a:rPr b="0" lang="fi-FI" sz="2400" spc="-1" strike="noStrike">
                <a:solidFill>
                  <a:srgbClr val="000000"/>
                </a:solidFill>
                <a:latin typeface="Gill Sans"/>
              </a:rPr>
              <a:t>31. heinäkuuta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3429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03AC-BC05-466C-AB51-8F2AEB3A1C00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17" descr="Valtti_powerpoint_uusin"/>
          <p:cNvPicPr/>
          <p:nvPr/>
        </p:nvPicPr>
        <p:blipFill>
          <a:blip r:embed="rId2"/>
          <a:stretch/>
        </p:blipFill>
        <p:spPr>
          <a:xfrm>
            <a:off x="0" y="7920"/>
            <a:ext cx="9145440" cy="685008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10"/>
          <p:cNvSpPr/>
          <p:nvPr/>
        </p:nvSpPr>
        <p:spPr>
          <a:xfrm>
            <a:off x="10105920" y="367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3"/>
          <p:cNvSpPr/>
          <p:nvPr/>
        </p:nvSpPr>
        <p:spPr>
          <a:xfrm>
            <a:off x="4378320" y="765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5"/>
          <p:cNvSpPr/>
          <p:nvPr/>
        </p:nvSpPr>
        <p:spPr>
          <a:xfrm>
            <a:off x="9394920" y="787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6"/>
          <p:cNvSpPr/>
          <p:nvPr/>
        </p:nvSpPr>
        <p:spPr>
          <a:xfrm>
            <a:off x="8315280" y="754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07e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F395F959-3311-4DDA-8A46-9F759B7F2479}" type="datetime3">
              <a:rPr b="0" lang="fi-FI" sz="2400" spc="-1" strike="noStrike">
                <a:solidFill>
                  <a:srgbClr val="000000"/>
                </a:solidFill>
                <a:latin typeface="Gill Sans"/>
              </a:rPr>
              <a:t>31. heinäkuuta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3429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6E42-8B0C-48E2-8E23-98537524F834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17" descr="Valtti_powerpoint_uusin"/>
          <p:cNvPicPr/>
          <p:nvPr/>
        </p:nvPicPr>
        <p:blipFill>
          <a:blip r:embed="rId2"/>
          <a:stretch/>
        </p:blipFill>
        <p:spPr>
          <a:xfrm>
            <a:off x="0" y="7920"/>
            <a:ext cx="9145440" cy="685008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10"/>
          <p:cNvSpPr/>
          <p:nvPr/>
        </p:nvSpPr>
        <p:spPr>
          <a:xfrm>
            <a:off x="10105920" y="367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3"/>
          <p:cNvSpPr/>
          <p:nvPr/>
        </p:nvSpPr>
        <p:spPr>
          <a:xfrm>
            <a:off x="4378320" y="765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5"/>
          <p:cNvSpPr/>
          <p:nvPr/>
        </p:nvSpPr>
        <p:spPr>
          <a:xfrm>
            <a:off x="9394920" y="787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6"/>
          <p:cNvSpPr/>
          <p:nvPr/>
        </p:nvSpPr>
        <p:spPr>
          <a:xfrm>
            <a:off x="8315280" y="754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07e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C51C5A01-9B34-4416-A4F2-74BFCB7B4FE6}" type="datetime3">
              <a:rPr b="0" lang="fi-FI" sz="2400" spc="-1" strike="noStrike">
                <a:solidFill>
                  <a:srgbClr val="000000"/>
                </a:solidFill>
                <a:latin typeface="Gill Sans"/>
              </a:rPr>
              <a:t>31. heinäkuuta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3429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04EF-D717-440F-A491-0C879034FBE0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Footer Placeholder 4"/>
          <p:cNvSpPr/>
          <p:nvPr/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06EB1B73-BCBD-4CEB-A649-C78789E30DAA}" type="datetime3">
              <a:rPr b="0" lang="fi-FI" sz="900" spc="-1" strike="noStrike">
                <a:solidFill>
                  <a:srgbClr val="000000"/>
                </a:solidFill>
                <a:latin typeface="Gill Sans"/>
              </a:rPr>
              <a:t>31. heinäkuuta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f207e"/>
                </a:solidFill>
                <a:latin typeface="Gill Sans"/>
              </a:rPr>
              <a:t>OPINNÄYTETYÖ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Valttikiri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Rectangle 32"/>
          <p:cNvSpPr/>
          <p:nvPr/>
        </p:nvSpPr>
        <p:spPr>
          <a:xfrm>
            <a:off x="-676440" y="10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34"/>
          <p:cNvSpPr/>
          <p:nvPr/>
        </p:nvSpPr>
        <p:spPr>
          <a:xfrm>
            <a:off x="7400880" y="5610240"/>
            <a:ext cx="151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35"/>
          <p:cNvSpPr/>
          <p:nvPr/>
        </p:nvSpPr>
        <p:spPr>
          <a:xfrm>
            <a:off x="7315200" y="570384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37"/>
          <p:cNvSpPr/>
          <p:nvPr/>
        </p:nvSpPr>
        <p:spPr>
          <a:xfrm>
            <a:off x="3578400" y="8251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38"/>
          <p:cNvSpPr/>
          <p:nvPr/>
        </p:nvSpPr>
        <p:spPr>
          <a:xfrm>
            <a:off x="-333360" y="974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Footer Placeholder 4"/>
          <p:cNvSpPr/>
          <p:nvPr/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475B5A2A-98FC-4042-ACAA-8CC5ABA6E483}" type="datetime3">
              <a:rPr b="0" lang="fi-FI" sz="900" spc="-1" strike="noStrike">
                <a:solidFill>
                  <a:srgbClr val="000000"/>
                </a:solidFill>
                <a:latin typeface="Gill Sans"/>
              </a:rPr>
              <a:t>31. heinäkuuta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f207e"/>
                </a:solidFill>
                <a:latin typeface="Gill Sans"/>
              </a:rPr>
              <a:t>MIKÄ? 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777240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15 op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Usein yksilötyönä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Sisältää itsenäisen työn, seminaarit ja ohjaukse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Kyettävä itsenäiseen työskentelyyn, työn aikatauluttamiseen ja raportointii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= suunnittelutehtävä, tuote- tai kehittämisprojekti, tietojärjestelmän luonti tai tutkimus riippuen alas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Footer Placeholder 4"/>
          <p:cNvSpPr/>
          <p:nvPr/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0944F764-FE5B-4C58-8303-8F13BEF758F5}" type="datetime3">
              <a:rPr b="0" lang="fi-FI" sz="900" spc="-1" strike="noStrike">
                <a:solidFill>
                  <a:srgbClr val="000000"/>
                </a:solidFill>
                <a:latin typeface="Gill Sans"/>
              </a:rPr>
              <a:t>31. heinäkuuta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f207e"/>
                </a:solidFill>
                <a:latin typeface="Gill Sans"/>
              </a:rPr>
              <a:t>Aiheen valinta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42960" y="1785960"/>
            <a:ext cx="777240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Ideoita alan ammattilehdistä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Keskustelut muiden opiskelijoiden ja opettajan kanss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Yhteistyössä yritysten ja yhteisöjen kanss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Ammattiopintojen alalta, työelämälähtöin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Omalta kannalta kiinnostav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Työharjoittelusta aih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Ihanneorganisaatiolta kysymään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Footer Placeholder 4"/>
          <p:cNvSpPr/>
          <p:nvPr/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48028F9B-C26C-428A-885C-9FFD2D261EF5}" type="datetime3">
              <a:rPr b="0" lang="fi-FI" sz="900" spc="-1" strike="noStrike">
                <a:solidFill>
                  <a:srgbClr val="000000"/>
                </a:solidFill>
                <a:latin typeface="Gill Sans"/>
              </a:rPr>
              <a:t>31. heinäkuuta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f207e"/>
                </a:solidFill>
                <a:latin typeface="Gill Sans"/>
              </a:rPr>
              <a:t>Aiheen valinta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42960" y="1785960"/>
            <a:ext cx="777240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Aiheeltaan ja taustaltaan riittävän perusteltu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Ajankohtainen ja realistin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Mieluummin suppea ja syvällin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Käytännönlähein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Analyyttinen, looginen ja hyödyllin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Osoittaa lähteitä ja tiedonhankitataitoj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Pohtiva ja kantaa ottav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Footer Placeholder 4"/>
          <p:cNvSpPr/>
          <p:nvPr/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6F4175AA-DC98-41A2-9CA1-857561BFB87B}" type="datetime3">
              <a:rPr b="0" lang="fi-FI" sz="900" spc="-1" strike="noStrike">
                <a:solidFill>
                  <a:srgbClr val="000000"/>
                </a:solidFill>
                <a:latin typeface="Gill Sans"/>
              </a:rPr>
              <a:t>31. heinäkuuta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f207e"/>
                </a:solidFill>
                <a:latin typeface="Gill Sans"/>
              </a:rPr>
              <a:t>Esimerkkejä aiheista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42960" y="1785960"/>
            <a:ext cx="777240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Varastoinnin kehittäminen metallialan yrityksessä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Sveitsiläismatkailijat Suomen järvialueell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Tilitoimistojen kehittäminen: kohteena…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Höyrykattilan kattilansuojan ja öljynpoltinlogiikan modernisointi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Tehtävä: Selvitä kirjastosta, millaisia opinnäytetöitä alallasi on tehty. Ks. Sisällysluettelo, pohdinta ja lähtee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Footer Placeholder 4"/>
          <p:cNvSpPr/>
          <p:nvPr/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EB82A95E-0C0D-45AF-B5B7-D61E6F302D1B}" type="datetime3">
              <a:rPr b="0" lang="fi-FI" sz="900" spc="-1" strike="noStrike">
                <a:solidFill>
                  <a:srgbClr val="000000"/>
                </a:solidFill>
                <a:latin typeface="Gill Sans"/>
              </a:rPr>
              <a:t>31. heinäkuuta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f207e"/>
                </a:solidFill>
                <a:latin typeface="Gill Sans"/>
              </a:rPr>
              <a:t>Muuta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56760" y="1785960"/>
            <a:ext cx="828684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Osoittaa, että opiskelija kykenee ratkaisemaan ongelmi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Selvitä arviointikriteeri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Kypsyysnäyte pakollinen, mutta ei vaikuta arvosanaa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Footer Placeholder 4"/>
          <p:cNvSpPr/>
          <p:nvPr/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CA2ED630-86E3-459E-AA8E-A0874CEAF257}" type="datetime3">
              <a:rPr b="0" lang="fi-FI" sz="900" spc="-1" strike="noStrike">
                <a:solidFill>
                  <a:srgbClr val="000000"/>
                </a:solidFill>
                <a:latin typeface="Gill Sans"/>
              </a:rPr>
              <a:t>31. heinäkuuta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f207e"/>
                </a:solidFill>
                <a:latin typeface="Gill Sans"/>
              </a:rPr>
              <a:t>Miksi ei etene?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42960" y="1785960"/>
            <a:ext cx="777240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Liian suuret vaatimukset työn suhte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Pelko epäonnistumises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Iso työmäärä pelotta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Työkiiree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Kirjoittaminen jumitta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Footer Placeholder 4"/>
          <p:cNvSpPr/>
          <p:nvPr/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054236EC-6109-47B6-9B8B-2E61F6FB4F70}" type="datetime3">
              <a:rPr b="0" lang="fi-FI" sz="900" spc="-1" strike="noStrike">
                <a:solidFill>
                  <a:srgbClr val="000000"/>
                </a:solidFill>
                <a:latin typeface="Gill Sans"/>
              </a:rPr>
              <a:t>31. heinäkuuta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f207e"/>
                </a:solidFill>
                <a:latin typeface="Gill Sans"/>
              </a:rPr>
              <a:t>Vinkkejä työskentelyyn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42960" y="1785960"/>
            <a:ext cx="777240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Työn aikatauluttaminen sisällysluoettelon perusteella mahdollisimman pieniin osii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Asennoidu oikein kirjoittamise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Keskity vain yhteen pieneen osaan kerrallaa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Esim. kirjoita yhdestä aiheesta sivu/päivä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Älä mieti arvosanaa, vaan keskity asiaan ja tekemise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Footer Placeholder 4"/>
          <p:cNvSpPr/>
          <p:nvPr/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E4880257-EFC0-4E14-B241-B7950A983BCF}" type="datetime3">
              <a:rPr b="0" lang="fi-FI" sz="900" spc="-1" strike="noStrike">
                <a:solidFill>
                  <a:srgbClr val="000000"/>
                </a:solidFill>
                <a:latin typeface="Gill Sans"/>
              </a:rPr>
              <a:t>31. heinäkuuta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f207e"/>
                </a:solidFill>
                <a:latin typeface="Gill Sans"/>
              </a:rPr>
              <a:t>Vinkkejä työskentelyyn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42960" y="1785960"/>
            <a:ext cx="777240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Kirjoita asia siten kuin itse sen ymmärrä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Jos et ymmärrä, mitä ohjaaja sanoo, pyydä selvennystä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Jos ahdistaa, muuta ajatustapaasi ja ajattele sitä, mitä saavutat, kun työ valmistuu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Usko itseesi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1:37:59Z</dcterms:created>
  <dc:creator>Sakke</dc:creator>
  <dc:description/>
  <dc:language>en-US</dc:language>
  <cp:lastModifiedBy>ra</cp:lastModifiedBy>
  <dcterms:modified xsi:type="dcterms:W3CDTF">2009-11-16T11:53:51Z</dcterms:modified>
  <cp:revision>17</cp:revision>
  <dc:subject/>
  <dc:title>PowerPoint Presentation</dc:title>
</cp:coreProperties>
</file>